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A503-1A8B-4870-94E8-8023C89BC13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ly western culture has shown a preference to monomodality -  in literature, official documents even in art &amp; music to some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school text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amp; digital screens produce multimodal techniques with the articuation that occurs between screens, window, frames, icons &amp; hypertext &amp; hypermedia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of multimodality hs been the use of multiple voices in text – eg. literature, film, TV [Boom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 is made in all mod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eaning is also the effect of all modes acting joi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 – spoken or written -is no longer the principal means of communication – we are continually confronted with multiple modes of communication. Dominant view that learning occurs through language is changing – some changes reflected in new curr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Students need to understand how language, images &amp; digital communication construc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st, images, gesture &amp; action often considered as illustrative ‘support’ to the ‘real thing – I.e. language/linguistic concep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ies of visual literacy and visual semiotics have been developed through from the 1980-90s unitl we now have a range of terms to describe the impact of elctronic &amp; digital technology – visual, digital literacy, technoliteracy, multiliteracies, multimodality and hypermodality, silicon literacy – reference to new literacies and new times. I’m going to stay with the term multimod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C1EAE-1857-4435-B913-45022C78B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D429-ABBA-4F48-B489-EDB9D3B02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D0A9B-2176-4E96-94A6-19DFC74EB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450FF-E3A6-45BD-9BA9-ECCF31A98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EA519-578B-4124-B838-819A1092B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AAC92-1D53-4AEF-823B-DF19424A7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7E944-95D6-4E32-89CD-F97DF3277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3B20B-86D1-4FF4-8820-9360C370E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37025-4F14-45F2-9B11-8C0FEFC61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2FF42-B92B-46E1-9405-E73432E78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23981-319B-4EBD-A08A-8679B26E1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57DD4-3EFE-4150-AD16-85F6BF75F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9C312-89DD-4635-A191-30FDF83A0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83BA9-A96B-4557-9513-F0558455C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90A7A-534F-463D-8580-C97EB5C5F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A02F8-FDE8-4BF4-AD83-BC8E20023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6B03A-2E0F-4A33-AE9A-44506345B5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7420A-0C23-4B96-A447-4CBB1F36D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F516-FB10-4B64-BFD4-5F7C18096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4746C-9A6A-414A-9EEC-CB8049991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514BF-198F-4D39-843D-A27FC0E77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542FE-BCAF-4892-887F-AE9A7B79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047D-C19E-4F6D-88A5-FC5AF43EF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B8D7-0663-43B9-80E0-7997A454B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59D6-A444-4767-A9D4-6E78D81414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1454-283C-4685-BB43-430772260B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ltllacu.wikispaces.com/file/view/Amazing+Web+2+Projects%5B1%5D.pdf"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7_zzPBbXjWs" TargetMode="External"/><Relationship Id="rId2" Type="http://schemas.openxmlformats.org/officeDocument/2006/relationships/hyperlink" Target="http://www.youtube.com/watch?v=_A-ZVCjfWf8&amp;feature=player_embedded"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UTHENTIC LEARNING AT St. PATRICK’S</a:t>
            </a:r>
            <a:endParaRPr b="0" lang="en-US" sz="38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1ce4"/>
                </a:solidFill>
                <a:latin typeface="Arial"/>
              </a:rPr>
              <a:t>MULTIMODAL Literac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1ce4"/>
                </a:solidFill>
                <a:latin typeface="Arial"/>
              </a:rPr>
              <a:t>Technological environmen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1ce4"/>
                </a:solidFill>
                <a:latin typeface="Arial"/>
              </a:rPr>
              <a:t>Open-ended question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1ce4"/>
                </a:solidFill>
                <a:latin typeface="Arial"/>
              </a:rPr>
              <a:t>Student-teacher-student-community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4760"/>
            <a:ext cx="82296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16"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th (2000) Neurobiological changes are occurring as a result of new modes of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a:t>
            </a:r>
            <a:r>
              <a:rPr b="0" lang="en-US" sz="2800" spc="-1" strike="noStrike">
                <a:solidFill>
                  <a:srgbClr val="421ce4"/>
                </a:solidFill>
                <a:latin typeface="Arial"/>
              </a:rPr>
              <a:t>Better theories of learning are embedded in video games than many children in primary and secondary schools ever experience in the classroom.” (Gee, 2003)  “ … encourage children to be more critical, constructive &amp; reflectiv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a:t>
            </a:r>
            <a:r>
              <a:rPr b="0" lang="en-US" sz="2800" spc="-1" strike="noStrike">
                <a:solidFill>
                  <a:srgbClr val="421ce4"/>
                </a:solidFill>
                <a:latin typeface="Arial"/>
              </a:rPr>
              <a:t>Computer games require concentration, forward planning, lateral thinking &amp; sustained problem solving” (Johnson)</a:t>
            </a:r>
            <a:endParaRPr b="0" lang="en-US" sz="2800" spc="-1" strike="noStrike">
              <a:solidFill>
                <a:srgbClr val="000000"/>
              </a:solidFill>
              <a:latin typeface="Arial"/>
            </a:endParaRPr>
          </a:p>
        </p:txBody>
      </p:sp>
      <p:sp>
        <p:nvSpPr>
          <p:cNvPr id="117" name=""/>
          <p:cNvSpPr/>
          <p:nvPr/>
        </p:nvSpPr>
        <p:spPr>
          <a:xfrm>
            <a:off x="-1332000" y="3213000"/>
            <a:ext cx="1008072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ULTIMODAL LEARNING ENVIRONMENTS</a:t>
            </a:r>
            <a:endParaRPr b="0" lang="en-US" sz="38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Classroom environment where teachers and students are using and interacting with different types of text across a range of curriculum ar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Multimodal texts -2 or more modes</a:t>
            </a:r>
            <a:endParaRPr b="0" lang="en-US" sz="3800" spc="-1" strike="noStrike">
              <a:solidFill>
                <a:srgbClr val="ffffff"/>
              </a:solidFill>
              <a:latin typeface="Arial"/>
            </a:endParaRPr>
          </a:p>
        </p:txBody>
      </p:sp>
      <p:sp>
        <p:nvSpPr>
          <p:cNvPr id="121" name="PlaceHolder 2"/>
          <p:cNvSpPr>
            <a:spLocks noGrp="1"/>
          </p:cNvSpPr>
          <p:nvPr>
            <p:ph/>
          </p:nvPr>
        </p:nvSpPr>
        <p:spPr>
          <a:xfrm>
            <a:off x="468360" y="1341360"/>
            <a:ext cx="4038480" cy="5073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         </a:t>
            </a:r>
            <a:r>
              <a:rPr b="1" lang="en-US" sz="2400" spc="-1" strike="noStrike">
                <a:solidFill>
                  <a:srgbClr val="421ce4"/>
                </a:solidFill>
                <a:latin typeface="Arial"/>
              </a:rPr>
              <a:t>READ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Picture books and information text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Talking book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CD Rom narratives and factual text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book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Web-sites, web search, web quests, book rap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Games, DVD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mails, discussion boards.</a:t>
            </a:r>
            <a:endParaRPr b="0" lang="en-US" sz="2400" spc="-1" strike="noStrike">
              <a:solidFill>
                <a:srgbClr val="000000"/>
              </a:solidFill>
              <a:latin typeface="Arial"/>
            </a:endParaRPr>
          </a:p>
        </p:txBody>
      </p:sp>
      <p:sp>
        <p:nvSpPr>
          <p:cNvPr id="122" name="PlaceHolder 3"/>
          <p:cNvSpPr>
            <a:spLocks noGrp="1"/>
          </p:cNvSpPr>
          <p:nvPr>
            <p:ph/>
          </p:nvPr>
        </p:nvSpPr>
        <p:spPr>
          <a:xfrm>
            <a:off x="4642920" y="1268280"/>
            <a:ext cx="4038840" cy="5073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           </a:t>
            </a:r>
            <a:r>
              <a:rPr b="1" lang="en-US" sz="2400" spc="-1" strike="noStrike">
                <a:solidFill>
                  <a:srgbClr val="421ce4"/>
                </a:solidFill>
                <a:latin typeface="Arial"/>
              </a:rPr>
              <a:t>PRODUC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mails, discussion  board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Slide shows, movie maker, power point</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Digital photo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Digital videos, i-movi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Video edit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book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Web sites / home pag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SMS messag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Blogs/wiki/podcas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at’s our children’s working environment going to be like in the futur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it look like their gaming life, where they’re checking 5 emails while having a conversation, while moving through these virtual worlds, or is it going to look like reading a bo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re going to train kids for that future, we probably need environments that are going to reflect what it’s really going to be like”. (Johnson, in </a:t>
            </a:r>
            <a:r>
              <a:rPr b="0" i="1" lang="en-US" sz="3200" spc="-1" strike="noStrike">
                <a:solidFill>
                  <a:srgbClr val="000000"/>
                </a:solidFill>
                <a:latin typeface="Arial"/>
              </a:rPr>
              <a:t>SMH </a:t>
            </a:r>
            <a:r>
              <a:rPr b="0" lang="en-US" sz="3200" spc="-1" strike="noStrike">
                <a:solidFill>
                  <a:srgbClr val="000000"/>
                </a:solidFill>
                <a:latin typeface="Arial"/>
              </a:rPr>
              <a:t>3 June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24" name="pb11" descr=""/>
          <p:cNvPicPr/>
          <p:nvPr/>
        </p:nvPicPr>
        <p:blipFill>
          <a:blip r:embed="rId1"/>
          <a:stretch/>
        </p:blipFill>
        <p:spPr>
          <a:xfrm>
            <a:off x="685800" y="304920"/>
            <a:ext cx="7848720" cy="6172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243000"/>
            <a:ext cx="9753840" cy="727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126" name=""/>
          <p:cNvGraphicFramePr/>
          <p:nvPr/>
        </p:nvGraphicFramePr>
        <p:xfrm>
          <a:off x="611280" y="0"/>
          <a:ext cx="7416720" cy="6858000"/>
        </p:xfrm>
        <a:graphic>
          <a:graphicData uri="http://schemas.openxmlformats.org/presentationml/2006/ole">
            <p:oleObj r:id="rId1" spid="">
              <p:embed/>
              <p:pic>
                <p:nvPicPr>
                  <p:cNvPr id="127" name="" descr=""/>
                  <p:cNvPicPr/>
                  <p:nvPr/>
                </p:nvPicPr>
                <p:blipFill>
                  <a:blip r:embed="rId2"/>
                  <a:stretch/>
                </p:blipFill>
                <p:spPr>
                  <a:xfrm>
                    <a:off x="611280" y="0"/>
                    <a:ext cx="7416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EB 2</a:t>
            </a:r>
            <a:endParaRPr b="0" lang="en-US" sz="4800" spc="-1" strike="noStrike">
              <a:solidFill>
                <a:srgbClr val="ffffff"/>
              </a:solidFill>
              <a:latin typeface="Arial"/>
            </a:endParaRPr>
          </a:p>
        </p:txBody>
      </p:sp>
      <p:sp>
        <p:nvSpPr>
          <p:cNvPr id="129" name="PlaceHolder 2"/>
          <p:cNvSpPr>
            <a:spLocks noGrp="1"/>
          </p:cNvSpPr>
          <p:nvPr>
            <p:ph/>
          </p:nvPr>
        </p:nvSpPr>
        <p:spPr>
          <a:xfrm>
            <a:off x="539640" y="1483920"/>
            <a:ext cx="7925040" cy="44197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Wikis</a:t>
            </a:r>
            <a:r>
              <a:rPr b="0" lang="en-US" sz="1400" spc="-1" strike="noStrike">
                <a:solidFill>
                  <a:srgbClr val="000000"/>
                </a:solidFill>
                <a:latin typeface="Arial"/>
              </a:rPr>
              <a:t> – a website that allows for easy creation and editing of interlinked web pages. Wikis contain features that allow for discussions between users. www.wikipedia.com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Blog </a:t>
            </a:r>
            <a:r>
              <a:rPr b="0" lang="en-US" sz="1400" spc="-1" strike="noStrike">
                <a:solidFill>
                  <a:srgbClr val="000000"/>
                </a:solidFill>
                <a:latin typeface="Arial"/>
              </a:rPr>
              <a:t>– a weblog is a type of website for online communication usually maintained by an individual with regular entries. Blogs are interactive and can allow for visitors to enter, read or view material and leave comments via “pos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Twitter</a:t>
            </a:r>
            <a:r>
              <a:rPr b="0" lang="en-US" sz="1400" spc="-1" strike="noStrike">
                <a:solidFill>
                  <a:srgbClr val="000000"/>
                </a:solidFill>
                <a:latin typeface="Arial"/>
              </a:rPr>
              <a:t> - is a website, owned and operated by Twitter Inc., which offers a social networking service, enabling its users to send and read messages called tweets. Tweets are text-based posts of up to 140 characters displayed on the user's profile page.</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acebook.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myspace.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flickr.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youtube.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twitter.com</a:t>
            </a:r>
            <a:endParaRPr b="0" lang="en-US" sz="1400" spc="-1" strike="noStrike">
              <a:solidFill>
                <a:srgbClr val="000000"/>
              </a:solidFill>
              <a:latin typeface="Arial"/>
            </a:endParaRPr>
          </a:p>
          <a:p>
            <a:pPr marL="332640" indent="-332640">
              <a:lnSpc>
                <a:spcPct val="80000"/>
              </a:lnSpc>
              <a:spcBef>
                <a:spcPts val="349"/>
              </a:spcBef>
              <a:buClr>
                <a:srgbClr val="421ce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blogger.com</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WF intranet Wikis Blogs School blog</a:t>
            </a:r>
            <a:endParaRPr b="0" lang="en-US" sz="1400" spc="-1" strike="noStrike">
              <a:solidFill>
                <a:srgbClr val="000000"/>
              </a:solidFill>
              <a:latin typeface="Arial"/>
            </a:endParaRPr>
          </a:p>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intranet.wf.catholic.edu.au/web/guest;jsessionid=EC2E78A114522C832691F8348177C184</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cc"/>
                </a:solidFill>
                <a:latin typeface="Arial"/>
              </a:rPr>
              <a:t>WEB2 Projects</a:t>
            </a:r>
            <a:r>
              <a:rPr b="0" lang="en-US" sz="1400" spc="-1" strike="noStrike">
                <a:solidFill>
                  <a:srgbClr val="000000"/>
                </a:solidFill>
                <a:latin typeface="Arial"/>
              </a:rPr>
              <a:t> </a:t>
            </a:r>
            <a:r>
              <a:rPr b="0" lang="en-US" sz="1400" spc="-1" strike="noStrike" u="sng">
                <a:solidFill>
                  <a:srgbClr val="996666"/>
                </a:solidFill>
                <a:uFillTx/>
                <a:latin typeface="Arial"/>
                <a:hlinkClick r:id="rId1"/>
              </a:rPr>
              <a:t>http://ltllacu.wikispaces.com/file/view/Amazing+Web+2+Projects%5B1%5D.pdf</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ODCASTS</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8000"/>
          </a:bodyPr>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Podcasting is a convenient way of automatically downloading audio or video files to your computer. You can then play this audio or video on your computer or transfer the files to a portable MP3 or video player.</a:t>
            </a:r>
            <a:endParaRPr b="0" lang="en-US" sz="24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Podcast' generally refers to audio. 'Video Podcast' (or 'Vodcast') refers to the distribution of video files in the same manner</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ttp://www.abc.net.au/science/starstuff/ </a:t>
            </a:r>
            <a:r>
              <a:rPr b="0" lang="en-AU" sz="2400" spc="-1" strike="noStrike">
                <a:solidFill>
                  <a:srgbClr val="421ce4"/>
                </a:solidFill>
                <a:latin typeface="Arial"/>
              </a:rPr>
              <a:t>science</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 everything</a:t>
            </a: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pad - http://www.apple.com/au/ipa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phon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tune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p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IGITAL NATIVE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0000"/>
          </a:bodyPr>
          <a:p>
            <a:pPr marL="308520" indent="-308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996666"/>
                </a:solidFill>
                <a:uFillTx/>
                <a:latin typeface="Arial"/>
                <a:hlinkClick r:id="rId1"/>
              </a:rPr>
              <a:t>http://www.youtube.com/watch?v=7_zzPBbXjWs</a:t>
            </a:r>
            <a:r>
              <a:rPr b="0" lang="en-AU" sz="2800" spc="-1" strike="noStrike">
                <a:solidFill>
                  <a:srgbClr val="000000"/>
                </a:solidFill>
                <a:latin typeface="Arial"/>
              </a:rPr>
              <a:t> DIGITAL NATIVE</a:t>
            </a:r>
            <a:endParaRPr b="0" lang="en-US" sz="2800" spc="-1" strike="noStrike">
              <a:solidFill>
                <a:srgbClr val="000000"/>
              </a:solidFill>
              <a:latin typeface="Arial"/>
            </a:endParaRPr>
          </a:p>
          <a:p>
            <a:pPr marL="308520" indent="-308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ttp://www.youtube.com/watch?v=uEDulInv9rE&amp;feature=related 21</a:t>
            </a:r>
            <a:r>
              <a:rPr b="0" lang="en-AU" sz="2800" spc="-1" strike="noStrike" baseline="30000">
                <a:solidFill>
                  <a:srgbClr val="000000"/>
                </a:solidFill>
                <a:latin typeface="Arial"/>
              </a:rPr>
              <a:t>st</a:t>
            </a:r>
            <a:r>
              <a:rPr b="0" lang="en-AU" sz="2800" spc="-1" strike="noStrike">
                <a:solidFill>
                  <a:srgbClr val="000000"/>
                </a:solidFill>
                <a:latin typeface="Arial"/>
              </a:rPr>
              <a:t> CENTURY21st Century Learning - Digital Learners (Part III) </a:t>
            </a:r>
            <a:endParaRPr b="0" lang="en-US" sz="2800" spc="-1" strike="noStrike">
              <a:solidFill>
                <a:srgbClr val="000000"/>
              </a:solidFill>
              <a:latin typeface="Arial"/>
            </a:endParaRPr>
          </a:p>
          <a:p>
            <a:pPr marL="308520" indent="-308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ttp://www.youtube.com/watch?v=b3i0bEjv2ts&amp;feature=related   DIGITAL GENERATION</a:t>
            </a:r>
            <a:endParaRPr b="0" lang="en-US" sz="2800" spc="-1" strike="noStrike">
              <a:solidFill>
                <a:srgbClr val="000000"/>
              </a:solidFill>
              <a:latin typeface="Arial"/>
            </a:endParaRPr>
          </a:p>
          <a:p>
            <a:pPr marL="308520" indent="-30852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996666"/>
                </a:solidFill>
                <a:uFillTx/>
                <a:latin typeface="Arial"/>
                <a:hlinkClick r:id="rId2"/>
              </a:rPr>
              <a:t>http://www.youtube.com/watch?v=_A-ZVCjfWf8&amp;feature=player_embedded</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PPS</a:t>
            </a:r>
            <a:endParaRPr b="0" lang="en-US" sz="4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omswithapps.co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mplications</a:t>
            </a:r>
            <a:endParaRPr b="0" lang="en-US" sz="4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421ce4"/>
                </a:solidFill>
                <a:latin typeface="Arial"/>
              </a:rPr>
              <a:t>Multimodal learning environments can provide stimulating engagement in  learning and literacy when…</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tasks are carefully planned in a logical, coherent sequenc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integrated with curriculum content and skills, an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Students are able to respond to and use different modes of communic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 ST. PATRICK’S TRUNDLE STAFF AND STUDENTS UTILISE</a:t>
            </a:r>
            <a:endParaRPr b="0" lang="en-US" sz="38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All Microsoft programs Word, Excell, Powerpoint, Data bases, Publisher</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Windows programs – Movie maker, Media player</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Enagage in webquests</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Activinspire and Promethean programs</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flipcharts</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mport data - weblinks hyperlinks</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World wide web for information and research</a:t>
            </a:r>
            <a:endParaRPr b="0" lang="en-US" sz="2400" spc="-1" strike="noStrike">
              <a:solidFill>
                <a:srgbClr val="000000"/>
              </a:solidFill>
              <a:latin typeface="Arial"/>
            </a:endParaRPr>
          </a:p>
          <a:p>
            <a:pPr marL="343080" indent="-343080">
              <a:lnSpc>
                <a:spcPct val="10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 </a:t>
            </a:r>
            <a:r>
              <a:rPr b="0" lang="en-AU" sz="2400" spc="-1" strike="noStrike">
                <a:solidFill>
                  <a:srgbClr val="421ce4"/>
                </a:solidFill>
                <a:latin typeface="Arial"/>
              </a:rPr>
              <a:t>Online activities for all KLA’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 ALSO UTILISE</a:t>
            </a:r>
            <a:endParaRPr b="0" lang="en-US" sz="4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NFORMATION LITERACIES Define, locate, select, organise, present and evaluate in all KLA’s utilising technology</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Digital camera and videoing/downloa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Scannin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WE ARE HEADING TOWARDS</a:t>
            </a:r>
            <a:br>
              <a:rPr sz="3800"/>
            </a:br>
            <a:r>
              <a:rPr b="0" lang="en-US" sz="3800" spc="-1" strike="noStrike">
                <a:solidFill>
                  <a:srgbClr val="ffffff"/>
                </a:solidFill>
                <a:latin typeface="Arial"/>
              </a:rPr>
              <a:t>UTILISING</a:t>
            </a:r>
            <a:endParaRPr b="0" lang="en-US" sz="38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Activexpression -  students and teachers  creating flipcharts incorporating open ended questioning. </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Blogs – school based blog for school community to acces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Social networking site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Podcasts – students and teachers to use and produce</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WIKI – Observe Wikis, read and contribute towards</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Videoing as an assessment tool.</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21ce4"/>
                </a:solidFill>
                <a:latin typeface="Arial"/>
              </a:rPr>
              <a:t>Iphone/ipad/ipod use in the classroo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LTIMODAL LITERACY</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21ce4"/>
                </a:solidFill>
                <a:latin typeface="Arial"/>
              </a:rPr>
              <a:t>The simultaneous reading, processing and or writing, designing, producing and interacting with various modes of print, image, </a:t>
            </a:r>
            <a:r>
              <a:rPr b="0" lang="en-US" sz="3200" spc="-1" strike="noStrike">
                <a:solidFill>
                  <a:srgbClr val="421ce4"/>
                </a:solidFill>
                <a:latin typeface="Arial"/>
              </a:rPr>
              <a:t>speech,</a:t>
            </a:r>
            <a:r>
              <a:rPr b="0" lang="en-AU" sz="3200" spc="-1" strike="noStrike">
                <a:solidFill>
                  <a:srgbClr val="421ce4"/>
                </a:solidFill>
                <a:latin typeface="Arial"/>
              </a:rPr>
              <a:t> movement, graphics, animation, sound, music and gesture </a:t>
            </a:r>
            <a:r>
              <a:rPr b="0" lang="en-US" sz="3200" spc="-1" strike="noStrike">
                <a:solidFill>
                  <a:srgbClr val="421ce4"/>
                </a:solidFill>
                <a:latin typeface="Arial"/>
              </a:rPr>
              <a:t>that require a constant interchange with others and with text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ULTIMODAL TEXTS</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ce4"/>
                </a:solidFill>
                <a:latin typeface="Arial"/>
              </a:rPr>
              <a:t>Examples of multimodal texts are:</a:t>
            </a:r>
            <a:br>
              <a:rPr sz="2400"/>
            </a:br>
            <a:r>
              <a:rPr b="0" lang="en-US" sz="2400" spc="-1" strike="noStrike">
                <a:solidFill>
                  <a:srgbClr val="421ce4"/>
                </a:solidFill>
                <a:latin typeface="Arial"/>
              </a:rPr>
              <a:t>A picture book, in which the textual and visual elements are arranged on individual pages that contribute to an overall set of bound pages </a:t>
            </a:r>
            <a:br>
              <a:rPr sz="2400"/>
            </a:br>
            <a:r>
              <a:rPr b="0" lang="en-US" sz="2400" spc="-1" strike="noStrike">
                <a:solidFill>
                  <a:srgbClr val="421ce4"/>
                </a:solidFill>
                <a:latin typeface="Arial"/>
              </a:rPr>
              <a:t>A webpage, in which elements such as sound effects, oral language, written language, music and still or moving images are combined </a:t>
            </a:r>
            <a:br>
              <a:rPr sz="2400"/>
            </a:br>
            <a:r>
              <a:rPr b="0" lang="en-US" sz="2400" spc="-1" strike="noStrike">
                <a:solidFill>
                  <a:srgbClr val="421ce4"/>
                </a:solidFill>
                <a:latin typeface="Arial"/>
              </a:rPr>
              <a:t>A live ballet performance, in which gesture, music, and space are the main elements. </a:t>
            </a:r>
            <a:br>
              <a:rPr sz="2400"/>
            </a:br>
            <a:r>
              <a:rPr b="0" lang="en-US" sz="2400" spc="-1" strike="noStrike">
                <a:solidFill>
                  <a:srgbClr val="421ce4"/>
                </a:solidFill>
                <a:latin typeface="Arial"/>
              </a:rPr>
              <a:t>Multimodal texts can be delivered via different media or technologies. They may be live, paper, or digital electronic.</a:t>
            </a:r>
            <a:br>
              <a:rPr sz="2400"/>
            </a:br>
            <a:r>
              <a:rPr b="0" lang="en-US" sz="2400" spc="-1" strike="noStrike">
                <a:solidFill>
                  <a:srgbClr val="421ce4"/>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W TECHNOLOGIES</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t>
            </a:r>
            <a:r>
              <a:rPr b="0" lang="en-AU" sz="2800" spc="-1" strike="noStrike">
                <a:solidFill>
                  <a:srgbClr val="421ce4"/>
                </a:solidFill>
                <a:latin typeface="Arial"/>
              </a:rPr>
              <a:t>No previous technology for literacy has been adopted by so many in so many different places, in such a short period of time, and with such profound consequenc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21ce4"/>
                </a:solidFill>
                <a:latin typeface="Arial"/>
              </a:rPr>
              <a:t>No previous technology for literacy permits the immediate dissemination of even newer technologies of literacy to every person on the internet by connecting to a single link on the screen.” (Coiro et al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searchers contend…</a:t>
            </a:r>
            <a:br>
              <a:rPr sz="3800"/>
            </a:br>
            <a:r>
              <a:rPr b="0" lang="en-US" sz="1900" spc="-1" strike="noStrike">
                <a:solidFill>
                  <a:srgbClr val="ffffff"/>
                </a:solidFill>
                <a:latin typeface="Arial"/>
              </a:rPr>
              <a:t>[e.g.Kress (2003); Bearne (2003); Unsworth (2001); Callow &amp; Zammitt (2002)]</a:t>
            </a:r>
            <a:endParaRPr b="0" lang="en-US" sz="19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Language-based pedagogy is no longer sufficient for literacy practices need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Students need ‘multiple literacy practices’ or ‘multiliterac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Theories of reading have been drawn from the reading of monomodal or print-based text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8">
                                            <p:txEl>
                                              <p:pRg st="2" end="2"/>
                                            </p:txEl>
                                          </p:spTgt>
                                        </p:tgtEl>
                                        <p:attrNameLst>
                                          <p:attrName>style.visibility</p:attrName>
                                        </p:attrNameLst>
                                      </p:cBhvr>
                                      <p:to>
                                        <p:strVal val="visible"/>
                                      </p:to>
                                    </p:set>
                                    <p:anim calcmode="lin" valueType="num">
                                      <p:cBhvr additive="base">
                                        <p:cTn id="13"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8">
                                            <p:txEl>
                                              <p:pRg st="4" end="4"/>
                                            </p:txEl>
                                          </p:spTgt>
                                        </p:tgtEl>
                                        <p:attrNameLst>
                                          <p:attrName>style.visibility</p:attrName>
                                        </p:attrNameLst>
                                      </p:cBhvr>
                                      <p:to>
                                        <p:strVal val="visible"/>
                                      </p:to>
                                    </p:set>
                                    <p:anim calcmode="lin" valueType="num">
                                      <p:cBhvr additive="base">
                                        <p:cTn id="19"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109" name=""/>
          <p:cNvGraphicFramePr/>
          <p:nvPr/>
        </p:nvGraphicFramePr>
        <p:xfrm>
          <a:off x="826920" y="620640"/>
          <a:ext cx="6985080" cy="5859360"/>
        </p:xfrm>
        <a:graphic>
          <a:graphicData uri="http://schemas.openxmlformats.org/presentationml/2006/ole">
            <p:oleObj r:id="rId1" spid="">
              <p:embed/>
              <p:pic>
                <p:nvPicPr>
                  <p:cNvPr id="110" name="" descr=""/>
                  <p:cNvPicPr/>
                  <p:nvPr/>
                </p:nvPicPr>
                <p:blipFill>
                  <a:blip r:embed="rId2"/>
                  <a:stretch/>
                </p:blipFill>
                <p:spPr>
                  <a:xfrm>
                    <a:off x="826920" y="620640"/>
                    <a:ext cx="6985080" cy="58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bbot, 2003</a:t>
            </a:r>
            <a:br>
              <a:rPr sz="3800"/>
            </a:br>
            <a:endParaRPr b="0" lang="en-US" sz="3800" spc="-1" strike="noStrike">
              <a:solidFill>
                <a:srgbClr val="ffffff"/>
              </a:solidFill>
              <a:latin typeface="Arial"/>
            </a:endParaRPr>
          </a:p>
        </p:txBody>
      </p:sp>
      <p:sp>
        <p:nvSpPr>
          <p:cNvPr id="1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2800" spc="-1" strike="noStrike">
                <a:solidFill>
                  <a:srgbClr val="421ce4"/>
                </a:solidFill>
                <a:latin typeface="Arial"/>
              </a:rPr>
              <a:t>The young person who watches digital TV, downloads MP3 music onto a personal player, checks e-mail on a personal organiser and sends symbolised messages to a mobile phone of a friend will not be satisfied with a 500-word revision guide for [HSC] phys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                                </a:t>
            </a:r>
            <a:r>
              <a:rPr b="0" lang="en-US" sz="2800" spc="-1" strike="noStrike">
                <a:solidFill>
                  <a:srgbClr val="421ce4"/>
                </a:solidFill>
                <a:latin typeface="Arial"/>
              </a:rPr>
              <a:t>Abbot,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Arial"/>
              </a:rPr>
              <a:t>Theory of Multimodality …</a:t>
            </a:r>
            <a:br>
              <a:rPr sz="3800"/>
            </a:br>
            <a:r>
              <a:rPr b="0" lang="en-US" sz="2100" spc="-1" strike="noStrike">
                <a:solidFill>
                  <a:srgbClr val="ffffff"/>
                </a:solidFill>
                <a:latin typeface="Arial"/>
              </a:rPr>
              <a:t>(Kress &amp; Van Leeuwen, 2001; Kress et al, 2001; Kress, 2003)</a:t>
            </a:r>
            <a:br>
              <a:rPr sz="2100"/>
            </a:br>
            <a:endParaRPr b="0" lang="en-US" sz="2100" spc="-1" strike="noStrike">
              <a:solidFill>
                <a:srgbClr val="ffffff"/>
              </a:solidFill>
              <a:latin typeface="Arial"/>
            </a:endParaRPr>
          </a:p>
        </p:txBody>
      </p:sp>
      <p:sp>
        <p:nvSpPr>
          <p:cNvPr id="114" name="PlaceHolder 2"/>
          <p:cNvSpPr>
            <a:spLocks noGrp="1"/>
          </p:cNvSpPr>
          <p:nvPr>
            <p:ph/>
          </p:nvPr>
        </p:nvSpPr>
        <p:spPr>
          <a:xfrm>
            <a:off x="457200" y="1699920"/>
            <a:ext cx="8229600" cy="504180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2800" spc="-1" strike="noStrike">
                <a:solidFill>
                  <a:srgbClr val="421ce4"/>
                </a:solidFill>
                <a:latin typeface="Arial"/>
              </a:rPr>
              <a:t>Emerged from attempts to conceptualise changed learning &amp; literacy practices [visual literacy, techno-literacy, e-literacy, digital/silicon literacy, multiliterac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1ce4"/>
                </a:solidFill>
                <a:latin typeface="Arial"/>
              </a:rPr>
              <a:t> </a:t>
            </a:r>
            <a:r>
              <a:rPr b="0" lang="en-US" sz="2800" spc="-1" strike="noStrike">
                <a:solidFill>
                  <a:srgbClr val="421ce4"/>
                </a:solidFill>
                <a:latin typeface="Arial"/>
              </a:rPr>
              <a:t>Communication occurs through different but synchronous modes: language, print, images, graphics, movement, gesture, texture, music, so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08:01:08Z</dcterms:created>
  <dc:creator>pamela.burke</dc:creator>
  <dc:description/>
  <dc:language>en-US</dc:language>
  <cp:lastModifiedBy>pamela.burke</cp:lastModifiedBy>
  <dcterms:modified xsi:type="dcterms:W3CDTF">2011-05-09T06:30:08Z</dcterms:modified>
  <cp:revision>18</cp:revision>
  <dc:subject/>
  <dc:title>Helping teachers to explore multimodal texts  This extract from a recent article in the journal Curriculum Leadership (Vol 8 Issue 16) would make an ideal addition to the Australian Curriculum for English, from K-12: What are multimodal texts? A text may be defined as multimodal when it combines two or more semiotic systems. There are five semiotic systems in total: Linguistic: comprising aspects such as vocabulary, generic structure and the grammar of oral and written language  Visual: comprising aspects such as colour, vectors and viewpoint in still and moving images  Audio: comprising aspects such as volume, pitch and rhythm of music and sound effects  Gestural: comprising aspects such as movement, speed and stillness in facial expression and body language  Spatial: comprising aspects such as proximity, direction, position of layout and organisation of objects in space.  Examples of multimodal texts are: a picture book, in which the textual and visual elements are arranged on individual pages that contribute to an overall set of bound pages  a webpage, in which elements such as sound effects, oral language, written language, music and still or moving images are combined  a live ballet performance, in which gesture, music, and space are the main elements.  Multimodal texts can be delivered via different media or technologies. They may be live, paper, or digital electronic. The article, by Michele Anstey and Geoff Bull, outlines ways to help support students’ facility with multimodal texts, and ideas for commencing a professional learning process to engage with multimodality in more sophisticated ways. If ACARA were to adopt this framework for modality (including the terminology of the ‘technology’ of ‘delivery’, and the broad categories of live, paper and digital electronic production) I think the Curriculum would be headed in a much more generative (and logical!) direction.   http://kellimcgraw.com/2010/06/10/helping-teachers-to-explore-multimodal-texts/ </dc:title>
</cp:coreProperties>
</file>